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1AB-F175-4AD0-9BFC-A29FA5F5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61F-9784-4E38-B71B-30C8E488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290-A82C-4990-A049-2A74F788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A06-F114-4428-A9DF-480BB885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906A-4F60-4566-A0FA-BCB9A331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E498-C490-45C4-B8AF-260795FA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A7CB-A278-4CBC-97EA-91F24867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8281-41D3-4E4F-9ADA-138317CB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7E18-A8F5-4ED4-84B4-E1B39FD6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6FC4-8ADE-47AF-9D03-23708C76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8B53-250F-4CFA-A9C0-51B388CD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8E4-F964-4DC3-BECC-CB4A7FB1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69EA-B249-4BBF-BF6A-A26C468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093A-6AA7-413D-A38F-397EDD18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7957-B5D4-4394-BD02-8280AB70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1263-039E-4C06-B746-E6A70579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B303-961B-4017-9DA1-C266212F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CDE-36F9-4897-A743-48E9D7CD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9A4-478D-46BA-8DE0-BB68A49C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D0C-8D9B-49CC-B4A4-D9C66ED0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A0F-E917-4FD9-BB46-2C8F3698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C7A-5D14-4CA1-B7FF-FF1F5AA1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0E6-9088-42C8-A14E-AEAAFEB1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7B3-A731-4C1E-9D1E-2A7D585C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974E-0F31-4ABB-BA3A-764117C9C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CD1E-0B34-4FAA-8B72-CA210E25D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684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ания науки не нуждаются в пересмотре до тех пор, п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на организации изучаемых объектов учтена в картине мир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ы освоения этих объектов соответствуют идеалам и нормам исслед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стройка оснований исследования есть смена стратегии научного поис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верждение новых оснований в науке зависит и о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604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х способности предсказывать новые факты, создавать конкретные теоретические мод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604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чин социокультурного характера (новые установки и знания должны быть вписаны в культуру эпохи и согласованы с ее ценностями и мировоззрение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стройка оснований науки в период научной революции есть выбор вектора роста зн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дача перестройки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ширить диапазон исследуемых объект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вязать динамику знания с ценностями и мировоззренческими установками соответствующей исторической эпох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ути роста знания в период научной революции имеются (два аспекта нелинейности роста знаний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конкуренция исследовательских программ в рамках отдельно взятой отрасли науки. Победа одной из программ, создавая новые возможности,  закрывает иные пути развит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489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взаимодействие научных дисциплин, обусловленное особенностями как исследуемых объектов, так и социокультурной среды, внутри которой развивается наука (революции в науке, преобразования картин мира влияют на другие отрасли знани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яется видение реальности, идеалы и нормы исслед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эти процессы и воздействуют на культуру, и испытывают ее влия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лобальные революции – это периоды в развитии науки можно выделить, когда трансформировались все компоненты ее основа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т процесс сопровождается радикальным изменением нормативных структур исследования и также философских оснований науки. В таких ситуациях происходит смена типа научной рациона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истории естествознания можно обнаружить четыре таких револю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561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92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ервая революция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еволюция XVIIв. (становлени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сического естествознания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лассическом естествознании соединились установки классической науки, конкретизированные  с учетом особой роли  механики для данной эпохи (механицизм как доминирующее философское основани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905120"/>
            <a:ext cx="8066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пистемологическая характеристика первой ГН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ставление о познании как наблюдении и экспериментировании с объектами (природа раскрывает свои тайны познающему разуму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ум  дистанцирован от вещей (наблюдает  со стороны наблюдающий), на него влияют только свойства и характеристики изучаемых объек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нимание изучаемых объект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ни рассматривались в качестве малых систем (механических устройств), которые характеризуются относительно небольшим количеством элементов, их силовыми взаимодействиями и жестко детерминированными связ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рамках такого подхо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9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йства целого полностью определяются состоянием и свойствами его ча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9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щь представлять как относительно устойчивое те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59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цесс есть перемещение тел в пространстве с течением вре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640" y="1905120"/>
            <a:ext cx="7921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Втора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глобальная научная революция (кон. XVIII – 1/2 XIX в.) – переход к новому состоянию естествознания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дисциплинарно организованной наук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сходит отказ от универсального статуса механической картины ми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биологии, химии и др. науках формируются специфические картины реальности (они несводимы к механицизму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0563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сходит дифференциация дисциплинарных идеалов и норм исследования. (идея эволюционного объяснения в биологии и геологии, отказ от эволюционизма в физик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ая и вторая глобальные революции в естествознании ответственны за оформление классической науки и ее стиля мышл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67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возможно появление принципиально новых типов объектов, и тогда требу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стройка оснований нау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менение метода познавательной деятельности (в том числе - идеалы и нормы исследования) и  происходит перестройка оснований науки (возможны 2 сценария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05120"/>
            <a:ext cx="7921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ретья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лобальная научная революция преобразовывает классическую науку и создает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еклассическо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стествозна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(кон. XIX – сер. XXвв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деалы неклассической нау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исходит отказ от идеала единственно истинной теории (допускается истинность нескольких отличающихся друг от друга конкретных теоретических описаний одной и той же реаль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ознается связь  между постулатами науки и характеристиками метода, посредством которого осваивается объект. (принимаются такие типы объяснения и описания, которые в явном виде содержат ссылки на средства и операции познавательной деятельности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561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дея исторической изменчивости научного знания. Познающий субъект не оторван  от изучаемого мира, он находится внутри него, детерминирован и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вет во многом определяется манерой ставить вопросы. Понимание этого привело к  новому пониманию категорий истины, объективности, фа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етверта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глобальная научная революция (3/3 ХХ в.) – рождение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стнеклассической нау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енности постнеклассической нау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нсивное применение научных знаний в социальной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ение самого характера научной деятельности (компьютеризация,  дорогое оборудование и т.д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рокое использование идей эволюции и историз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обальные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6360" y="1628640"/>
            <a:ext cx="69120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обое значение приобретают междисциплинарные и проблемно-ориентированные исслед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процессе определения научно-исследовательских приоритетов все большую роль начинают играть не научные, а экономические и социально-политические це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ука все больше интересуется открытыми саморазвивающимися систем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20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ществует три исторических типа научной рациональности – три крупных этапа исторического развития науки, каждый из которых открывается глобальной научной революци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ческая рациональность (в додисциплинарном и дисциплинарно организованном состоянии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классическая рациональность (соответствующая неклассической науке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неклассическая рационально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98508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лассическая рациональнос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нимание на объек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ремление при теоретическом объяснении и описании удалить все, что относится к субъекту и средствам его деятель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рассматривается как необходимое условие получения объективно-истинного знания о мир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63452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20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еклассический тип научной рациональ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читывает связи между знаниями об объекте и характером средств и операций деятель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язи между внутринаучными и социальными ценностями и целями по-прежнему не являются предметом научной рефлексии, хотя косвенно они определяют характер зн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волюция как трансформация специальной картины мира без существенных изменений идеалов и норм исследования (переход от механической к электродинамической картине мира в 4/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волюция, при которой вместе с картиной мира радикально меняются идеалы и нормы науки (создание квантово-релятивистской физи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5247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20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стнеклассический тип рациональ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читывает связанность получаемых знаний об объекте и с особенностью средств и операций деятельности, и с ценностно-целевыми структурами. Особый акцент делается на связи внутринаучных целей с вненаучны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ипы научной рацион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040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8281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ществует два пути перестройки оснований исследования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счет внутридисциплинарного развития знани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счет междисциплинарных связей, «прививки» парадигмальных установок одной науки на другу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стройка оснований в результате ее внутреннего развития подразумев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итическое осмысление картины мира и идеалов позн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копление данных, которые не находят объяснения в старой картине мира факты-аномалии и парадокс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наружение нового типа объектов и их теоретическое опис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ункции философии при пересмотре оснований наук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итическая (осознание относительности и условности старой картины мира и старых идеалов научного позна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нструктивная (помощь в определении новых оснований исследова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лософско-методологические средства играют особую роль, когда основным источником изменения становятся факторы междисциплинарного взаимодействия – парадигмальные привив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рививаются» другим наукам компоненты оснований лидирующей нау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561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такие «прививки» возможн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Ядро лидирующей науки включает в себя фундамент общей научной картины мира данной эпох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этой причине принятые в ней идеалы и нормы обретают общенаучный статус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дача философии – подготовить почву для трансляции отдельных идей, принципов и методов лидера в другие нау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тради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учные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989000"/>
            <a:ext cx="64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имствованные другими науками парадигмальные принципы могут оказать обратное воздействие на те науки, из которых они были первоначально заимствова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9:00:50Z</dcterms:created>
  <dc:creator>Владас</dc:creator>
  <dc:description/>
  <dc:language>en-US</dc:language>
  <cp:lastModifiedBy>Владас</cp:lastModifiedBy>
  <dcterms:modified xsi:type="dcterms:W3CDTF">2009-04-09T12:39:11Z</dcterms:modified>
  <cp:revision>134</cp:revision>
  <dc:subject/>
  <dc:title>Слайд 1</dc:title>
</cp:coreProperties>
</file>